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7A3-3048-43D8-BE0D-5EF40513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20E-BEC4-4660-8E55-1A921194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31A-05E9-4136-86FA-09E14283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A62-5195-44E1-99C0-50B3A6AE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D77-0BF8-4B58-BB4E-3B78A7D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A2E-E92D-4CED-9AD7-E4EB656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ED4-CCE3-499C-8255-0D64BD90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995-63D1-4D07-AA4B-71B5815B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B28-EAF3-4081-9A3D-0460AA55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3DD-9283-4D6D-BAB4-AF80B045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92E-8479-4AB2-9E64-12F11CF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A63-B44D-40BA-B3C7-C5C82DE9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2BBE-9214-43E4-B40E-6F35E8C3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eb.mit.edu/invent/iow/haas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762120"/>
            <a:ext cx="7116840" cy="43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Rounded MT Bold"/>
              </a:rPr>
              <a:t>PE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latin typeface="Arial Rounded MT Bold"/>
              <a:ea typeface="Arial Rounded MT Bold"/>
            </a:endParaRPr>
          </a:p>
        </p:txBody>
      </p:sp>
      <p:sp>
        <p:nvSpPr>
          <p:cNvPr id="42" name=""/>
          <p:cNvSpPr/>
          <p:nvPr/>
        </p:nvSpPr>
        <p:spPr>
          <a:xfrm>
            <a:off x="7245360" y="5181480"/>
            <a:ext cx="189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7/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94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: free play music, Country 10/4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Z was invented in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Z stands for “Pfefferminze” the German word for pepperm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as had the idea of putting an ad out saying “For smokers that might of want to stop smoking put a PEZ in your mouth in stead of a cigaret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as also made a plastic lighter that dispensed one PEZ at a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55 Haas started to make cartoon head dispensers for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lemon, grape, orange, &amp; strawberry at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known cartoon dispensers were Santa Claus, Popeye, and a space tro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Eduard Haas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ard was born near Vienna, Australia in 189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grandpa invented a baking powder to make cakes a lighter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dad studied medicine and opened a wholesale grocery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aas"/>
          <p:cNvPicPr/>
          <p:nvPr/>
        </p:nvPicPr>
        <p:blipFill>
          <a:blip r:embed="rId2"/>
          <a:srcRect l="0" t="0" r="75013" b="2281"/>
          <a:stretch/>
        </p:blipFill>
        <p:spPr>
          <a:xfrm>
            <a:off x="0" y="0"/>
            <a:ext cx="281952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Haas"/>
          <p:cNvPicPr/>
          <p:nvPr/>
        </p:nvPicPr>
        <p:blipFill>
          <a:blip r:embed="rId3"/>
          <a:srcRect l="26089" t="0" r="0" b="0"/>
          <a:stretch/>
        </p:blipFill>
        <p:spPr>
          <a:xfrm>
            <a:off x="0" y="3352680"/>
            <a:ext cx="6324480" cy="350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aas"/>
          <p:cNvPicPr/>
          <p:nvPr/>
        </p:nvPicPr>
        <p:blipFill>
          <a:blip r:embed="rId4"/>
          <a:stretch/>
        </p:blipFill>
        <p:spPr>
          <a:xfrm>
            <a:off x="6324480" y="3352680"/>
            <a:ext cx="2819520" cy="3505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45720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. Mit program, PEZ, Sept. 29.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eb.mit.edu/invent/iow/haa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0Z</dcterms:created>
  <dc:creator>install</dc:creator>
  <dc:description/>
  <dc:language>en-US</dc:language>
  <cp:lastModifiedBy>install</cp:lastModifiedBy>
  <dcterms:modified xsi:type="dcterms:W3CDTF">2010-10-13T18:09:43Z</dcterms:modified>
  <cp:revision>13</cp:revision>
  <dc:subject/>
  <dc:title>Slide 1</dc:title>
</cp:coreProperties>
</file>